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EDEE-C98F-415B-BDC6-1B1DA4A9D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FB82-4EA3-40CC-9C92-61C811E4A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5967-F40F-49EC-A87F-B3FCF3F97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5B8B-35C9-4A44-9FB7-DB02D5799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D00E-EF92-4F94-8B44-48BB66EFB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EAC1-1118-4E8D-8586-E27FAED9B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9A8E-5F53-406F-A1DF-FA2E76AAC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8C53-C6BA-4041-81D2-3F50DC279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B421-5C53-42B3-B6C2-117189FCB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9C03-829D-4216-A746-258F9987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0778-D5B3-404C-962F-D367C849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DA6A-A2D0-40D4-B6B3-048148DD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B52C6-0C04-4E69-BD43-B5EF1EB7B1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zTLiJE-j1-I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 Guide 5-1 –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Acids and B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457200" y="762120"/>
            <a:ext cx="800100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ying Aci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acid is a compound that produces hydronium ions (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when dissolved in wa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380880" y="1676520"/>
            <a:ext cx="807732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erties of acids inclu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Sour taste:  foods like lemons, grapefruits, limes contain citric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id.  Vinegar contains acetic ac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295280" y="2819520"/>
            <a:ext cx="71629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Reactivity with metals:  aluminum foil can react with the citric acid from a toma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reaction between an acid and a metal is an single-replacement reaction (chemical reaction in which one element takes the place of another element in a comp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1676520" y="4572000"/>
            <a:ext cx="685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n + 2HCl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Zn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1905120" y="49528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ns reacts to produ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aturated Hydrocarb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533520" y="114300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ydrocarbon – organic compound that contains only the elements hydrogen and carb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838080" y="2514600"/>
            <a:ext cx="563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: meth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533520" y="1905120"/>
            <a:ext cx="746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turated hydrocarbon – all bonds are single bonds .  These use the maximum amount of hydrogen atoms for each carbon a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533520" y="2895480"/>
            <a:ext cx="80010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operties of a hydrocarbon are determined 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the number of carbon atoms –more carbon atoms, the higher th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iling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the arrangement of the at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1905120" y="449568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3 ways to arrange carb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2209680" y="5029200"/>
            <a:ext cx="63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aight chains (see figure 4 page 26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Branched chains– (compare how butane to isobutane 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ge26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2133720" y="1066680"/>
            <a:ext cx="624816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have the same molecular formula, just a different structur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some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these structural differences can effect some properties of the iso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more carbons we add, the more isomers w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ld ha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523880" y="4495680"/>
            <a:ext cx="64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Rings – (see figure 5 on 26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 Guide 5-3 day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533520" y="106668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Unsaturated Hydrocarb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838080" y="1523880"/>
            <a:ext cx="75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ometimes hydrocarbons can contain multiple bonds (double, triple) = unsaturated hydrocarb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143000" y="2286000"/>
            <a:ext cx="72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We classify unsaturated hydrocarbons by bond type and arrangement of the carbon at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143000" y="3048120"/>
            <a:ext cx="739152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Typ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Alkenes: have a double bond between the two carbon atoms. (draw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hene diagram pg 266 in not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fruit bearing plants produce ethe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names in end -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1295280" y="5029200"/>
            <a:ext cx="723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Alkynes: hydrocarbons that have one or more triple bonds. (draw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hyne diagram pg. 266 in not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most reactive hydrocarb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names end in -y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1143000" y="1143000"/>
            <a:ext cx="8001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Aromatic:  hydrocarbons which contain similar ring structures (draw benzene ring from 266 in not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many of these compounds have strong o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609480" y="2362320"/>
            <a:ext cx="815364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t common hydrocarbon in our everyday life?  Fossil fuel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ssil fuels are mixtures of hydrocarbons formed from plant and animal remai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types of fossil fuel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990720" y="403848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mostly aromatic hydrocarbons.  High ratio of carbon to hydrogen, causing more soot when burn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990720" y="487692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Natural Ga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 made from marine remains. Main ingredient is methane—same stuff produced by cows as they digest grass.  Also contains ethan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etroleu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 crude oil, texas tea!  Made from marine organis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1066680" y="1143000"/>
            <a:ext cx="7391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Complex hydrocarbons(long-branched alkanes and alkyn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useful only if separated into simpler mixtures:  gas &amp; heating oi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380880" y="198108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To use fossil fuels, we must combust (burn)  them.  The combustion of fossil fuel produces 2 primary products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838080" y="2743200"/>
            <a:ext cx="75438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Carbon dioxide: if too much fossil fuel is burned, an increase in the amount of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ay increase temperature, amounts of rain and sea levels around the worl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1219320" y="3809880"/>
            <a:ext cx="723888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too much burning also causes the acidity of rain to incre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rain has some acidity, with a pH of about 5.6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the burning increases sulfur dioxide and nitrogen oxides and when dissolved in water, produces sulfuric acid and nitric acid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causes structural damage on metals and concr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 Guide 5-4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c Acids and B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838080" y="137160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Hydrogen atoms can be replaced in a reaction by an atom or by a group of atoms = substituted hyrdrocarb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219320" y="2057400"/>
            <a:ext cx="7238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the atom or group of atoms that does the substitution is called the functional grou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functional group determines the properties of th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762120" y="3429000"/>
            <a:ext cx="8076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Organic Acid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citric acid is an example of an organic acid (sour taste in lem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1219320" y="4114800"/>
            <a:ext cx="73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the functional group is a carboxyl group (-CO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838080" y="4572000"/>
            <a:ext cx="8153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Organic Bas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amime is an example of an organic base (smell of rotten fis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1295280" y="5410080"/>
            <a:ext cx="7620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functional group is amino group )-N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omers and Polymers, Oh MY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09480" y="106668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sometimes molecules can be built up from smaller units which are linked together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914400" y="1828800"/>
            <a:ext cx="731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olymer:  large molecule that forms when many smaller molecules are linked together by COVALENT BOND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1143000" y="259092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the smaller units are called mono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1219320" y="3048120"/>
            <a:ext cx="708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sometimes polymers are made up of just one monomer or they can be made up of more than one mono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1219320" y="373392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can be natural (cotton and wool) or synthetic (man ma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1523880" y="411480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synthetic examples:  nylon, rubber, polythylene (plastic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Color changes in Indicator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Indicator – is any substance that changes color in th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ence of an acid or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2057400" y="1828800"/>
            <a:ext cx="4952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:  Litmus pa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blue litmus paper turns red when in ac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057400" y="2590920"/>
            <a:ext cx="5562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, if an unknown solution is placed on b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tmus paper and it turns red, its an aci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1981080" y="3276720"/>
            <a:ext cx="55627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mmon Ac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acetic acid – vineg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carbonic acid – Carbonated bever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Nitric acid – Fertiliz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Sulfuric acid – Car batte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erties of Bases includ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Bitter taste:  unsweetened chocolate, cough syrups, e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676520" y="266688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Slippery feel:  wet soap, cleaning product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685800" y="457200"/>
            <a:ext cx="62485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ying B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Base= compound that produces hydroxide ions (O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when dissolved in w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990720" y="15238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OH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+  O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1676520" y="3048120"/>
            <a:ext cx="57909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Color changes:  turns red litmus b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so if an unknown solution turns a piece of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 litmus blue, it’s a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1676520" y="4114800"/>
            <a:ext cx="64008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n bas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Aluminum hydroxide = deodorant, antac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Calcium hydroxide = concrete, pl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Magnesium hydroxide = antacid, lax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utralization and Salts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990720" y="99072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A reaction between an acid and a base is called neutra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371600" y="12952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basically cancels each other ou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1371600" y="1523880"/>
            <a:ext cx="617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negative ions from acid combine with positive ions of base to produce ionic compound called sa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1295280" y="2133720"/>
            <a:ext cx="61722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neutraliztion reaction between an acid and 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 produces a salt and w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1600200" y="2895480"/>
            <a:ext cx="7086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Cl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+ (N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O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+ (N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+ Cl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1676520" y="335268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cid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(base)            (water)       (sal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1600200" y="3657600"/>
            <a:ext cx="60958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n Sa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sodium chloride = food flavo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Magnesium chloride = de-icer for ro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Calcium carbonate = chalk, marble floors, and t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Ammonium nitrate = fertilizer, cold p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 Guide 5-2  Strength of Acids and b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990720" y="914400"/>
            <a:ext cx="7238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33520" y="106668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How can you describe the acidity or basicity of a solut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838080" y="1371600"/>
            <a:ext cx="655344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using a number scale from 0 to 14 to describe the concentration of hydronium ions (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in a solution.  This scale is the pH sca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838080" y="236232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H measure how much hydronium ions are in the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838080" y="2666880"/>
            <a:ext cx="670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if a solution measure to a 7, then it is neutral (not acid or 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838080" y="2971800"/>
            <a:ext cx="67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if a solution measures over a 7, it is a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838080" y="3352680"/>
            <a:ext cx="678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if a solution measures under a 7, it is an acid –see figure 22 on page 24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990720" y="388620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 what does this mean in regard to hydronium concetrat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1219320" y="4038480"/>
            <a:ext cx="632448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lower the pH value, the greater the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on concentration in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3"/>
          <p:cNvSpPr/>
          <p:nvPr/>
        </p:nvSpPr>
        <p:spPr>
          <a:xfrm>
            <a:off x="1219320" y="4724280"/>
            <a:ext cx="624816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higher the pH value, the lower the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on concentration in solu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trong Acids and B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33520" y="1219320"/>
            <a:ext cx="77724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when acids almost completely ionize (most molecules ionize) when dissolved in water, they ar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rong aci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sulfuric and nitric ac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533520" y="2209680"/>
            <a:ext cx="78483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bases dissociate (seperation of ions as they dissolve) almost completely in water, they are considere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rong bas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533520" y="29718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Weak acids and b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685800" y="32767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weak acids and bases ionize (acids) or dissociate (bases) only slightly in w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990720" y="403848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k Acids = citric acid in OJ and acids in vineg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990720" y="441972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k Bases = toothpase and shampo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685800" y="49528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centration vs. Strength…the same righ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990720" y="1143000"/>
            <a:ext cx="761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concentration is amount of solute (substance whose particles are dissolved in a solution) dissolved in a given amount of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990720" y="182880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strength is the solute’s tendency to form ions in wa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914400" y="2057400"/>
            <a:ext cx="76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o not assume that strong acids have a low pH because concentration also affects 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685800" y="2666880"/>
            <a:ext cx="7772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ffers = solution that is resistant to large changes in pH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Weak acids and bases are used to make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1600200" y="342900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Why does this work?  Because the buffer reacts with both the acid and base, keeping the pH relatively cons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762120" y="3962520"/>
            <a:ext cx="7848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ctrolytes: substance that ionizes or dissasociates into ions when  it dissolves in w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sports dri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1600200" y="50292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do they work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tore the balance of ions in b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560" y="6094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ong acids and bases are strong electrolytes because they dissociate or ionize almost complet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752480" y="1143000"/>
            <a:ext cx="61722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salts are strong electrol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batteries produce electricity which contain electrolyt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fuel cel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914400" y="3048120"/>
            <a:ext cx="7520040" cy="19936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838080" y="259092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 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Note Guide 5-3 day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609480" y="1143000"/>
            <a:ext cx="79250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if a compound contains carbon and hydrogen we call it an organic compound.  They often combine wi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 and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990720" y="1828800"/>
            <a:ext cx="716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90% of all compounds are organ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990720" y="2209680"/>
            <a:ext cx="777240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bon has 4 valence electrons which allows it to form many bonds to achieve stability.  4 single bonds, a double bonds, etc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basically any combination of 4 to meet valence electr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1066680" y="3352680"/>
            <a:ext cx="739152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3 forms of carb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am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ph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llerenes ( large hollow spheres or cages of carbon) found in meteor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3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3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3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3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4:03:38Z</dcterms:created>
  <dc:creator>Farwell Area Schools</dc:creator>
  <dc:description/>
  <dc:language>en-US</dc:language>
  <cp:lastModifiedBy>John Pakledinaz</cp:lastModifiedBy>
  <dcterms:modified xsi:type="dcterms:W3CDTF">2009-11-12T15:49:17Z</dcterms:modified>
  <cp:revision>18</cp:revision>
  <dc:subject/>
  <dc:title>Note Guide 5-1 – Acids and Bases</dc:title>
</cp:coreProperties>
</file>